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6B3F-A965-43C3-A088-A6AA5E5E9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EB64-DA6B-47C4-83EB-9A79BE353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CAF0-7F8E-4834-BA78-BEE9ADF5A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2C5B-054D-4CE6-9C93-21EEC6AA3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4175B-2D3E-4A5E-A0F7-35CB1167D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1ED68-EB90-46F0-AC4C-13D5DC9FD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5DBEC-93E7-43F6-9F53-4522855FB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AD0DE-B4C8-4207-9A05-089C7203B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E391E-BC11-400E-94A9-9DF22D72B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220AD-BA73-4E52-AD23-97A354BA0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E7E8B-2755-4BF7-B929-6DE3F63FD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15F3-8545-432F-A1AE-1ED5FB14B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2FEED-2E99-44AB-982B-7ABC32012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D12C7-B30D-4425-AD87-A3F83001A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C9C5A-EB16-41CF-B760-3CD40EE8D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EFC8E-B415-44B6-BD40-E672AA680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DE91C-0648-4CE2-BDA2-790352915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96AB-0D3F-4F99-985D-4CEB2BF4E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0ED4-20BA-48C4-87C5-20402233F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F3E1-8A6C-47BE-8D92-C84857BCE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DA34-D6DF-403E-AA07-9833100F1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65A3-1CE1-4F0F-9E23-5B093FE9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1D93-744C-4972-B5E2-771A04CE9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1094-ADCF-4F63-9CE8-E9FE791E6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A40EB-8423-46ED-87A0-D8D781FDE582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C1AD9-B476-4869-B701-05E5A033202F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Literary Analysis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The Cask of Amontillado”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. Third idea (foreshadowing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. Fac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uppor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uppor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. Fac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uppor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uppor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. Fac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uppor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uppor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Defini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o examine an aspect or part of a piece of literatur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o explain what a piece of writing means or do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llows writer to express knowledge of literary devices and element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llows writer to express an opinion and prove i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urpose/Audience/Ton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urpose- to share, explain or convince reade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udience- the teacher/clas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one- forma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hat to discus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Repetitio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Foreshadowing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tting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Characte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erro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mager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ymbolis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Figurative languag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imil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metaphor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Use of sens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uspens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lann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rewrit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Focus on your topic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Jot down idea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Jot down proof from stor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t least three idea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sis statemen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Main idea of your writing put into sentenc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699160" y="1600200"/>
            <a:ext cx="2835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lann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Evidenc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From stor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Quotes from tex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Orde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Outlin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Order of importanc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Chronologica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tructur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ntroductio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Use author and name of work in introductio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Bod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Conclusio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Tips for writing a literary analysi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Use present tens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Use 3</a:t>
            </a:r>
            <a:r>
              <a:rPr b="0" lang="en-US" sz="2800" spc="-1" strike="noStrike" baseline="30000">
                <a:solidFill>
                  <a:srgbClr val="eaeaea"/>
                </a:solidFill>
                <a:latin typeface="Verdana"/>
              </a:rPr>
              <a:t>rd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person POV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Don’t summarize stor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Do not use contraction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Do not confuse author with characters or narrato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upport what you state with evidenc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Develop a creative title that relates to your topic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ave someone edit and proof read your work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sis Statemen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. First idea (First Person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. Fac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uppor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uppor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. Fac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uppor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uppor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. Fac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uppor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uppor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I. Second idea (imagery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. Fac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uppor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uppor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. Fac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uppor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uppor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. Fac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uppor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uppor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6T16:24:10Z</dcterms:created>
  <dc:creator>HansenSte</dc:creator>
  <dc:description/>
  <dc:language>en-US</dc:language>
  <cp:lastModifiedBy>HansenSte</cp:lastModifiedBy>
  <dcterms:modified xsi:type="dcterms:W3CDTF">2003-11-06T17:23:33Z</dcterms:modified>
  <cp:revision>8</cp:revision>
  <dc:subject/>
  <dc:title>Literary Analysi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